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90413"/>
        <c:axId val="48984797"/>
      </c:barChart>
      <c:catAx>
        <c:axId val="37290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84797"/>
        <c:crosses val="autoZero"/>
        <c:auto val="1"/>
        <c:lblAlgn val="ctr"/>
        <c:lblOffset val="100"/>
        <c:noMultiLvlLbl val="0"/>
      </c:catAx>
      <c:valAx>
        <c:axId val="48984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90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7E3-2DF8-4F2D-8CAC-D60825F3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236-3477-44E2-BA66-12646EDD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0A5-E861-4D09-B411-C2704B01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5FBF-6C2E-4273-9C4E-BA92E5B3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95DE-B2E8-463C-8FC8-CDAB60DE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D5C-9FCB-410D-90F7-4957D2D3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0E3-5CCE-43FE-A5FE-E0517A75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24C-34E2-4135-93E3-A89E8B07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4B8D-FAEC-4030-B14A-7E811BED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866-34DC-4933-A27C-073DDE89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984E-4CD7-4B64-9A64-B4EEBD06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699E-7F6B-4D7D-BC3F-B38E3007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D55B8-049A-49DD-B4BA-4234D85908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