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30892"/>
        <c:axId val="45638030"/>
      </c:barChart>
      <c:catAx>
        <c:axId val="84530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38030"/>
        <c:crosses val="autoZero"/>
        <c:auto val="1"/>
        <c:lblAlgn val="ctr"/>
        <c:lblOffset val="100"/>
        <c:noMultiLvlLbl val="0"/>
      </c:catAx>
      <c:valAx>
        <c:axId val="45638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30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E6E-B950-469D-8A5B-813F03C1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D45-09D8-4E98-AC0E-13226CD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EAA-8B1F-4295-BB01-CAB3574C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3BE-86A1-473E-A822-BD9B5FE3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016-DC01-4196-865F-49DB8C77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D16-DDAC-4B69-B0DE-92962F55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7FE-7991-467E-840C-3698A12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83B-3AC0-4E39-8235-C063C0BA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8A7-DE5B-43F7-8100-4104AB2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51A-8E2D-4FEB-B5AB-0644631B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2EA-CEAB-418B-AD2D-C7FC2A1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281-BA7F-4DBF-BE02-E827C4D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53C7C-5184-4B37-8DC2-182DD3AECD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