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53341"/>
        <c:axId val="22648458"/>
      </c:barChart>
      <c:catAx>
        <c:axId val="67533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648458"/>
        <c:crosses val="autoZero"/>
        <c:auto val="1"/>
        <c:lblAlgn val="ctr"/>
        <c:lblOffset val="100"/>
        <c:noMultiLvlLbl val="0"/>
      </c:catAx>
      <c:valAx>
        <c:axId val="226484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33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B3A-B482-4D63-940B-3FADE5BCD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943-B670-49EF-A6E8-A3582AB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C70B-9E0A-49D7-921F-C5521944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019C-5239-4006-9586-4885DB93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92E-9846-4E41-8167-41FBE230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0DD5-1767-48A5-A9DB-43BE3FD1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B95C-12E0-44BD-89F4-7E1EA62E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447-77F0-427D-9810-526E3A39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2481-A898-4651-A98F-7855FE1FE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BDC-AEF4-4919-85F6-BCCD0C1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59E-9D07-49F2-A5DA-C9D5A4F3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9704-13C1-4586-9706-664B1D5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AB6CB-E6E3-4B4E-94BE-2BE8430E69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