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71650"/>
        <c:axId val="86641267"/>
      </c:barChart>
      <c:catAx>
        <c:axId val="83071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41267"/>
        <c:crosses val="autoZero"/>
        <c:auto val="1"/>
        <c:lblAlgn val="ctr"/>
        <c:lblOffset val="100"/>
        <c:noMultiLvlLbl val="0"/>
      </c:catAx>
      <c:valAx>
        <c:axId val="86641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71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860-E2E8-4F15-87B1-DBB4FB07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E4F-65E3-4123-8BB3-0DD3BEB3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E69-F225-4DC4-9EE5-185628B6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E14-3DA4-4514-91F6-2E34772A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CEC-8A4D-4879-8670-E388825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436-4BFA-4BA6-ABF3-F7D15157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0D5-61E1-473D-A40D-416475F7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D64-E007-42CF-9F13-B691FAA5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6EB-7E9A-45BD-9298-D76F7B29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DFC-99BF-445E-84C5-EB068296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614-C468-4205-AFC0-CE28A39F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3B4-7B3A-4B8F-A445-96FF3C4F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A2C58-5D6F-4CAA-A492-D3D9154517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