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49534"/>
        <c:axId val="96871984"/>
      </c:barChart>
      <c:catAx>
        <c:axId val="83495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71984"/>
        <c:crosses val="autoZero"/>
        <c:auto val="1"/>
        <c:lblAlgn val="ctr"/>
        <c:lblOffset val="100"/>
        <c:noMultiLvlLbl val="0"/>
      </c:catAx>
      <c:valAx>
        <c:axId val="968719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95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64DC-359A-4EA2-9B9B-42A796C8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D1BF-9E7D-4CD7-AADD-8A8C45BD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6704-51D2-4347-B896-519B44D7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101-1BA8-4481-A2E6-BD690BA1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C5C7-DA7D-4327-BF71-AE80EA6D5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5B5F-848F-48BC-BEDC-AEC9FA52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F0D-6162-4CCC-9C66-D84303EF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A4D1-1F6D-48D5-81AD-8622A408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A99A-0DF7-4883-9219-EDF72537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B5C5-E437-42D9-ACEB-902C320E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6EE-E164-4B62-9F07-B6391A02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BF74-A229-4D23-890B-39BCD59F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4F026-AE15-4645-9973-59B463CDD4F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